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C0ED-73D0-43B3-A966-2C6FE60DDAA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1BA-63C4-49C0-A60C-87259FA7012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1319-0BFB-4318-8F30-AFB69D5FB5C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911A-9FA0-4EC2-A5A7-80F5B8FD14F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A863-38B9-4533-AC4E-D7F88D7C52B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BE6-5A0F-41A4-98B1-8D952B37F9D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5FEA-BC0A-43E7-B784-09D377EE255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CAC-47F0-4F57-A63C-9090F682B93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E415-38EB-4040-8C27-946C3EF3D7C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FE32-7B81-43D8-BA1D-6E2C982FE09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C8BC-6331-4270-A9D9-BEC47378424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E445-5E91-4C90-BA47-A1A149873F3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FF40-DBDF-48DD-BC51-948E1D6EC24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CF1A-A1B5-4F32-B9D6-1C46C47B58F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B7EF-AF56-44A7-8215-6A0D8A3AF51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6867-D270-40C3-988F-A6B24A9A621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81FD-A2F1-4C53-B607-4B675F304F8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F9D3-F863-4F72-A67B-F1836CF40BA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386-0A29-4F44-8383-BD2B40756DE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BE84-20CC-4A0E-BC5A-AB649A8D5CD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AD3-B1B7-4BAB-AF86-1C20D57F581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DDF-ECE1-41B7-93D2-AC47B03B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9CC-61B4-4187-9CD6-E9F0C187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5B6-1D2C-445A-A748-86262A84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A96-95B2-48D5-B696-FC514721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4CB-2B5E-4F77-95BE-655545B8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5DA-B547-46D8-80A7-85E8CC2B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482-45F8-4D7F-ACF0-15DE68B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BB6-701A-45F1-954C-A742620C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F18-E351-4206-BC94-6F3EDB7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7AB-F9DF-4553-99B6-A741A74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D71-F493-4B12-9415-6C669A4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9FB-D4F7-4633-A519-770960E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4E81-B6A5-443B-AB36-F2B8F4ED9E5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E940-75B7-43D2-A6F4-B2B9D6BB84F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ОРОФАЦИЈАЛНЕ РЕГ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37 - 39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Бенигни тумори меких ткива, остеогени бенигни тумори, неодонтогени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бенигни тумори, одонтогени тумори, терапија бенигних тумора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01560" y="6180120"/>
            <a:ext cx="782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75BF-77EF-487A-ACC8-4B9724F7C17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13" name="Picture 9" descr="C:\Users\Zoran\Downloads\oralna hirurgija\slike\benigni\fibroma\images.jpg"/>
          <p:cNvPicPr/>
          <p:nvPr/>
        </p:nvPicPr>
        <p:blipFill>
          <a:blip r:embed="rId1"/>
          <a:stretch/>
        </p:blipFill>
        <p:spPr>
          <a:xfrm>
            <a:off x="500040" y="1833480"/>
            <a:ext cx="2827440" cy="18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C:\Users\Zoran\Downloads\oralna hirurgija\slike\benigni\fibroma\images (1).jpg"/>
          <p:cNvPicPr/>
          <p:nvPr/>
        </p:nvPicPr>
        <p:blipFill>
          <a:blip r:embed="rId2"/>
          <a:srcRect l="0" t="0" r="1634" b="27189"/>
          <a:stretch/>
        </p:blipFill>
        <p:spPr>
          <a:xfrm>
            <a:off x="3598920" y="1866960"/>
            <a:ext cx="24732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:\Users\Zoran\Downloads\oralna hirurgija\slike\benigni\fibroma\images (2).jpg"/>
          <p:cNvPicPr/>
          <p:nvPr/>
        </p:nvPicPr>
        <p:blipFill>
          <a:blip r:embed="rId3"/>
          <a:stretch/>
        </p:blipFill>
        <p:spPr>
          <a:xfrm>
            <a:off x="500040" y="4006800"/>
            <a:ext cx="27957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C:\Users\Zoran\Downloads\oralna hirurgija\slike\benigni\fibroma\images (4).jpg"/>
          <p:cNvPicPr/>
          <p:nvPr/>
        </p:nvPicPr>
        <p:blipFill>
          <a:blip r:embed="rId4"/>
          <a:stretch/>
        </p:blipFill>
        <p:spPr>
          <a:xfrm>
            <a:off x="3610080" y="4033800"/>
            <a:ext cx="2604960" cy="1943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C:\Users\Zoran\Downloads\oralna hirurgija\slike\benigni\fibroma\images (3).jpg"/>
          <p:cNvPicPr/>
          <p:nvPr/>
        </p:nvPicPr>
        <p:blipFill>
          <a:blip r:embed="rId5"/>
          <a:stretch/>
        </p:blipFill>
        <p:spPr>
          <a:xfrm>
            <a:off x="6303960" y="300348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9AA-67CC-4CF0-BEB3-02F940127F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57200" y="1720800"/>
            <a:ext cx="8253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ип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спорорастући бенигни тумори пореклом од масног ткива или у његовој непосредној окол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, липоми су јасном ограничени, слободно покретни тумори, сферичног облика и жућкасте боје мас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ипоми се уклањају ексцизијом тумора у це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ба бити обазрив уколико су локализовани у близини масног јастучета образа да се ова формација не протумачи погрешно као лип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9AE2-B3B7-42E1-8012-52E24C5AED6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Users\Zoran\Downloads\oralna hirurgija\slike\benigni\download (2).jpg"/>
          <p:cNvPicPr/>
          <p:nvPr/>
        </p:nvPicPr>
        <p:blipFill>
          <a:blip r:embed="rId1"/>
          <a:stretch/>
        </p:blipFill>
        <p:spPr>
          <a:xfrm>
            <a:off x="619200" y="1494000"/>
            <a:ext cx="3220920" cy="241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Zoran\Downloads\oralna hirurgija\slike\benigni\download.jpg"/>
          <p:cNvPicPr/>
          <p:nvPr/>
        </p:nvPicPr>
        <p:blipFill>
          <a:blip r:embed="rId2"/>
          <a:srcRect l="0" t="3657" r="2700" b="7726"/>
          <a:stretch/>
        </p:blipFill>
        <p:spPr>
          <a:xfrm>
            <a:off x="3448080" y="3621240"/>
            <a:ext cx="2523960" cy="28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Zoran\Downloads\oralna hirurgija\slike\benigni\images.jpg"/>
          <p:cNvPicPr/>
          <p:nvPr/>
        </p:nvPicPr>
        <p:blipFill>
          <a:blip r:embed="rId3"/>
          <a:stretch/>
        </p:blipFill>
        <p:spPr>
          <a:xfrm>
            <a:off x="5378400" y="1539720"/>
            <a:ext cx="334008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06A-DEBA-4E57-BE50-4E02D373CC5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469800" y="1623960"/>
            <a:ext cx="8180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е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сте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бенигни тумори који расту споро, по правилу у доњој вилици, изазивајући деформитет одговарајућег пре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стављени су од зреле кости, а у зависности од места настанка, деле с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централне ( ендосеалне )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перифе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A9A2-9AEF-49E5-81D4-B04812423F6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80960" y="1757520"/>
            <a:ext cx="8205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ентрални остеоми настају на унутрашњој страни кортекса и шире се у спонгио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нарасту изазивају локализовану експанзиј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карактеришу се јасно ограниченим засенчењем кости које је оивичено танком линијом расветљења коју даје мембрана остеома. Оклузална или аксијална пројекција потврђују ендосеално порекло лезије, на унутрашњој страни корт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8CFE-69FD-450D-B13C-66FAC6190BE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" y="1660680"/>
            <a:ext cx="8182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остеоми настају од периоста или сам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 бити састављени од компактне кости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steoma durum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ли спонгиозне кости (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steoma spongiosum 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вљају се и у мандибули и максили, посебно често у пределу рамуса, на кондиларном или короноидном наставку, тврдом непцу и, понекад и у сину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ултипли периферни остеоми су једна од карактеристика Гарднеровог синдрома ( мултипла полипоза танког црева, лојних циста коже, одонтома и импактирани прекобројни зуб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еоми се лече хируршки – ексциз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8764-D560-47D5-A78D-B1CE7652A5D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Zoran\Downloads\oralna hirurgija\slike\benigni\osteoma\images (1).jpg"/>
          <p:cNvPicPr/>
          <p:nvPr/>
        </p:nvPicPr>
        <p:blipFill>
          <a:blip r:embed="rId1"/>
          <a:stretch/>
        </p:blipFill>
        <p:spPr>
          <a:xfrm>
            <a:off x="449280" y="1398600"/>
            <a:ext cx="3711600" cy="2627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Zoran\Downloads\oralna hirurgija\slike\benigni\osteoma\images.jpg"/>
          <p:cNvPicPr/>
          <p:nvPr/>
        </p:nvPicPr>
        <p:blipFill>
          <a:blip r:embed="rId2"/>
          <a:stretch/>
        </p:blipFill>
        <p:spPr>
          <a:xfrm>
            <a:off x="6276960" y="1419120"/>
            <a:ext cx="2278080" cy="331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Zoran\Downloads\oralna hirurgija\slike\benigni\osteoma\images (2).jpg"/>
          <p:cNvPicPr/>
          <p:nvPr/>
        </p:nvPicPr>
        <p:blipFill>
          <a:blip r:embed="rId3"/>
          <a:stretch/>
        </p:blipFill>
        <p:spPr>
          <a:xfrm>
            <a:off x="3170160" y="4008600"/>
            <a:ext cx="31719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rcRect l="0" t="0" r="557" b="20662"/>
          <a:stretch/>
        </p:blipFill>
        <p:spPr>
          <a:xfrm>
            <a:off x="488880" y="4098960"/>
            <a:ext cx="2649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04E9-A483-4B49-ADC8-2E2DB9A35F6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33440" y="1623960"/>
            <a:ext cx="82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Егзостозе и то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C:\Users\Zoran\Downloads\oralna hirurgija\slike\preprotetska\image060.gif"/>
          <p:cNvPicPr/>
          <p:nvPr/>
        </p:nvPicPr>
        <p:blipFill>
          <a:blip r:embed="rId1"/>
          <a:stretch/>
        </p:blipFill>
        <p:spPr>
          <a:xfrm>
            <a:off x="274680" y="2730600"/>
            <a:ext cx="4333680" cy="291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Users\Zoran\Downloads\oralna hirurgija\slike\preprotetska\image071.gif"/>
          <p:cNvPicPr/>
          <p:nvPr/>
        </p:nvPicPr>
        <p:blipFill>
          <a:blip r:embed="rId2"/>
          <a:srcRect l="6338" t="0" r="3173" b="12353"/>
          <a:stretch/>
        </p:blipFill>
        <p:spPr>
          <a:xfrm>
            <a:off x="4757760" y="2728800"/>
            <a:ext cx="417672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7E93-1B82-48CC-A76C-397A3D40FBF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20840" y="1552680"/>
            <a:ext cx="8218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онд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лативно редак тумор вилица, састављен искључиво од зрелог хрскавичав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ци хрскавице у мандибули могу да се нађу у пределу симфизе, брадног отвора и око инцизивног ка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максили, ови бенигни тумори често настају од остатака носне хрскав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ондроми се јављају као безболни, релативно покретни тумори, расту споро и могу достићи завидну велич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рз раст са дислокацијом присутних зуба, као и појава болова, могу да буду знаци малигн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4059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3BDE-C058-4E8D-BA0C-5389CAA4998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89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444600" y="1697040"/>
            <a:ext cx="8170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остеоми ( осифицирајући фибром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а лезија периодонталног порекла, када ћелије периодонцијума добијају потенцијал за стварање кости, цемента и фиброзног ткива у различитим пропорц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 налаз показује јасно ограничену зону расветљења која личи на цисту са присутним острвцима коштаног ткива у лу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а киретажа кроз трепанациони отвор у кортикалном делу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6C4-3EBC-4699-B428-22DEE9F6A8D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орофацијалне регије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69800" y="1660680"/>
            <a:ext cx="721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O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новне карактеристик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 дају мета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ту споро и експанзи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еле се н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е туморе мек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нигне туморе вили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остеог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неосте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Arial"/>
              </a:rPr>
              <a:t>одонто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4B8B-F2D1-426E-A99F-05ED9732089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457200" y="160020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остеогени тумори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б локализован у кости, састављен од фибробласта и коолагена, веома је ретка лезија и не испољава патогномоничне клиничке или радиографске зна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, енуклеација у це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3955-5C0D-4E04-AB9C-184A5814702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433440" y="1539720"/>
            <a:ext cx="8265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ГАНТОЦЕЛУЛАР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ухватају већу групу лезија којима је заједнички микроскопски налаз џиновских вишеједарн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чајно је да ове лезије испољавају различиту ћуд – од лезије бенигног карактера до агресивне неопла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ГЛ спада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ентрал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гантоцелуларни ту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рки тумор код хиперпаратиреод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еуризмална коштана ци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руб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860C-9760-47EF-A616-CAC85063940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Zoran\Downloads\oralna hirurgija\slike\benigni\gigantocelulare\Zunge_etc_14.JPG"/>
          <p:cNvPicPr/>
          <p:nvPr/>
        </p:nvPicPr>
        <p:blipFill>
          <a:blip r:embed="rId1"/>
          <a:stretch/>
        </p:blipFill>
        <p:spPr>
          <a:xfrm>
            <a:off x="588960" y="2033640"/>
            <a:ext cx="7908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9A4A-2278-49E0-B403-85915A03A40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92240" y="1576440"/>
            <a:ext cx="8675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ферни гигантоцелуларни гранулом ( гигантоцелуларни епулис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а ГЛ лезија ви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Џиновске вишеједарне ћелије имају карактеристике остеокласта, а моноједарне ћелије показују особине моноцитно- макрофагних ћелија и остеобл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ферни ГЛ гранулом је реактивна лезија на локалне иритације или трау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нодулус припојен за подлогу широком основом или се налази на петељ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ован је искључиво у везивном ткиву гингиве или слузокоже безубог алвеоларног греб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7E5A-A512-4C22-A028-9D74189AEB0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44600" y="1708200"/>
            <a:ext cx="82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одуси су црвени или плавичасти, меки или чврсти, некад улцерисани, могу да доведу до померања зуба или ероз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C:\Users\Zoran\Downloads\oralna hirurgija\slike\benigni\gigantocelulare\a10293.005-1_big.gif"/>
          <p:cNvPicPr/>
          <p:nvPr/>
        </p:nvPicPr>
        <p:blipFill>
          <a:blip r:embed="rId1"/>
          <a:stretch/>
        </p:blipFill>
        <p:spPr>
          <a:xfrm>
            <a:off x="189000" y="3083040"/>
            <a:ext cx="4413240" cy="21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C:\Users\Zoran\Downloads\oralna hirurgija\slike\benigni\gigantocelulare\0236532955.jpg"/>
          <p:cNvPicPr/>
          <p:nvPr/>
        </p:nvPicPr>
        <p:blipFill>
          <a:blip r:embed="rId2"/>
          <a:srcRect l="14092" t="19246" r="915" b="2549"/>
          <a:stretch/>
        </p:blipFill>
        <p:spPr>
          <a:xfrm>
            <a:off x="4740120" y="262260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2"/>
          <p:cNvSpPr/>
          <p:nvPr/>
        </p:nvSpPr>
        <p:spPr>
          <a:xfrm>
            <a:off x="204840" y="552276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 са конзервативним приступ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AFE2-03AB-4D76-B7A6-C2A445E9698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87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444600" y="1708200"/>
            <a:ext cx="83026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ентрални гигантоцелулар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а бенигна интраосеална лезија. Лезије су обично без симптома и откривају се случајно, или због безболне експанзиј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агресивне лезије ( асимптоматске, расту споро, не пробијају кортекс и не изазивају ресорпцију коренова зуб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гресивне лезије ( изражени су бол, брз раст, перфорација кортекса, ресорпција коренова и често рецидивирају после хируршког уклања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E01C-FFD5-497A-B1BE-F2E588CD82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457200" y="1647720"/>
            <a:ext cx="8205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ГГ се радиографски испољава као унилокуларно или мултилокуларно расветљење кости вилица, јасно ограничено, различите велич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снову ртг налаза није могућа дијагн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 централних гигантоцелуларних гранулома вилица је хируршка, најчешће кирета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тим, треба имати на уму да рецидиви нису ретка пој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времени приступ лечењу ових лезија подразумева интралезијску апликацију кортикостероида или калцито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калцитонина се заснива на идеји да овај хормон тиреоидне жлезде спречава ресорпцију кости и сузбија функцију остеокл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E9A-FBC6-4287-A180-D0659B55DA3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433440" y="1539720"/>
            <a:ext cx="8324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рки тумор код хиперпаратиреод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активна лезија кости услед хиперпаратиреодизма, која је клинички и микроскопски идентична централном гигантоцелуларном гранулому ви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е лезије често захватају мандибулу, клавикулу, ребра и карлицу у случајевима хипертиреод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нифестује се као интраосеална лезија која често перфорира кортекс. Некад се испољава и као епулис или расте из екстракционе ране. Лезије су чешће мултип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и тумори се не лече оралнохирур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0" y="6424560"/>
            <a:ext cx="41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5F6A-D7AC-48CF-BAE8-C47CF860504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69800" y="1479600"/>
            <a:ext cx="8180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еуризмална коштана ц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тка реактивна интраосеална псеудоциста, најчешће локализована у дугим костима и пршљеновима, а знатно ређе у вилиц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се испољавају отоком меког ткива услед експанзије кости. Оток обично има брзу еволуци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тг налаз показује мултилокуларно или унилокуларно расветљење кости обично удружено са истањењем корт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е сматра да је анеуризмална коштана циста, заправо, агресивна варијанта гигантоцелуларног гранул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5104-1B55-443D-A74E-A873D7CDC1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469800" y="1708200"/>
            <a:ext cx="818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Черуб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генетски поремећај развоја вилица који се карактерише њиховим билатералним безболним увећањ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 је чешћи у доњој него у горњој вил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C:\Users\Zoran\Downloads\oralna hirurgija\slike\benigni\images (5).jpg"/>
          <p:cNvPicPr/>
          <p:nvPr/>
        </p:nvPicPr>
        <p:blipFill>
          <a:blip r:embed="rId1"/>
          <a:stretch/>
        </p:blipFill>
        <p:spPr>
          <a:xfrm>
            <a:off x="625320" y="3645000"/>
            <a:ext cx="4146840" cy="232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Users\Zoran\Downloads\oralna hirurgija\slike\benigni\download (5).jpg"/>
          <p:cNvPicPr/>
          <p:nvPr/>
        </p:nvPicPr>
        <p:blipFill>
          <a:blip r:embed="rId2"/>
          <a:srcRect l="52740" t="8199" r="19881" b="11923"/>
          <a:stretch/>
        </p:blipFill>
        <p:spPr>
          <a:xfrm>
            <a:off x="5418000" y="3289320"/>
            <a:ext cx="29480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3D56-33CF-41A8-A02C-20F3EE20DE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57200" y="1744560"/>
            <a:ext cx="814536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изациј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но ( усне, образ, под уста, језик и гингив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убљим интерфасцијалним прост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ичу од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зив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талих ткива мезенхим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0461-EE0C-4273-BF99-8F88ED4E840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420840" y="1563840"/>
            <a:ext cx="8205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уроге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Шваном ( неурилемом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редак бенигни тумор вилица који потиче од Шванових ћел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лавном се јављају у доњој вилици као солитарна лезија у задњем делу тела или рамусу. Тумор лагано расте, најчешће асимптоматски ( могућа појава осетљивости и парестезиј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рактеристичан ртг налаз показује јасно ограничено расветљење оивичено танком зоном склеротичне кости. Зуби у суседству лезије су малпонирани и показују знаке ресорп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енуклеација т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E677-C77A-4689-846F-5049C7D4A3A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444600" y="1636560"/>
            <a:ext cx="819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Неуро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 редак солитарни тум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мптоми могу варирати од потпуно асимптоматске лезије, до веома болне, поготову у току жвак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 се види као неправилно расветљење без јасних граница, обично иза менталног отвора повезано са мандибуларним кан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и приступ зависи од величине и локализације л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олико лезија није директно повезана са нервним стаблом може се једноставно енуклеирати. У противном, треба је ексцидирати заједно са нер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7052-C70E-41AE-8684-07DC54E66B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69800" y="1708200"/>
            <a:ext cx="8674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скуларне мал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Настају као последица грешака у васкуларној морфогенези, јављају се на рођењу, а углавном постају евидентне након трауме, хируршке интервенције или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имптоматологија је неспецифична: оток, асиметрија лица, осећај притиска, бол, покретљивост зуба, епистакса, повремено спонтано крварење око вратов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Лечење може бити нехируршко (склерозирање лезије) и хируршко ( киретажа, емболизација, ресекција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3385-1945-4677-AADA-ED62556AC65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469800" y="1660680"/>
            <a:ext cx="81694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онтогени тумори ви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ухватају групу лезија које су настале  од зубних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енствено су интраосеалне лезије ( централне ), али могу се јавити и екстраосеал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асификација одонтогених тумора је начињена  у складу са генезом ткива  од које поти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шо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енхим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5235-1DF6-46C3-B2C7-13F61983618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42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444600" y="1647720"/>
            <a:ext cx="8134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пителни ( искључиво од одонтогеног епител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најчешће развија из глеђног органа или његових ћелијских остат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у облику солидне мултицистичне лезије, са одликама спорог, локално инвазивног раста, али уопштено бенигног понашањ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тно чешће се јавља у мандибули и то у бочном делу тела и рамус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т тумора је асимптоматског карактера, али се веће лезије испољавају експанзијом вилице и от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3345-7E4D-405F-8F96-635C3D9AC5E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8" name="Freeform 28"/>
          <p:cNvSpPr/>
          <p:nvPr/>
        </p:nvSpPr>
        <p:spPr>
          <a:xfrm>
            <a:off x="5734080" y="3728880"/>
            <a:ext cx="401760" cy="1011240"/>
          </a:xfrm>
          <a:custGeom>
            <a:avLst/>
            <a:gdLst>
              <a:gd name="textAreaLeft" fmla="*/ 0 w 401760"/>
              <a:gd name="textAreaRight" fmla="*/ 402120 w 40176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536" h="1200">
                <a:moveTo>
                  <a:pt x="296" y="0"/>
                </a:moveTo>
                <a:cubicBezTo>
                  <a:pt x="200" y="76"/>
                  <a:pt x="104" y="152"/>
                  <a:pt x="56" y="240"/>
                </a:cubicBezTo>
                <a:cubicBezTo>
                  <a:pt x="8" y="328"/>
                  <a:pt x="0" y="440"/>
                  <a:pt x="8" y="528"/>
                </a:cubicBezTo>
                <a:cubicBezTo>
                  <a:pt x="16" y="616"/>
                  <a:pt x="64" y="696"/>
                  <a:pt x="104" y="768"/>
                </a:cubicBezTo>
                <a:cubicBezTo>
                  <a:pt x="144" y="840"/>
                  <a:pt x="176" y="888"/>
                  <a:pt x="248" y="960"/>
                </a:cubicBezTo>
                <a:cubicBezTo>
                  <a:pt x="320" y="1032"/>
                  <a:pt x="488" y="1160"/>
                  <a:pt x="536" y="1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480960" y="1731960"/>
            <a:ext cx="83869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амелобластом најчешће даје слику мултилокуларног расветљења вилице, са ресорпцијом коренова суседних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зија може да буде удружена са неизниклим зу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скопски налаз показује бројне варијанте које нису у вези  са биолошким понашањем т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и облици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ликуларн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ексиформ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4138560" y="45957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РЕСЕКЦИЈА ЕН 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72F3-445D-44EE-A5D8-112B29D1D3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Zoran\Downloads\oralna hirurgija\slike\benigni\download (3).jpg"/>
          <p:cNvPicPr/>
          <p:nvPr/>
        </p:nvPicPr>
        <p:blipFill>
          <a:blip r:embed="rId1"/>
          <a:stretch/>
        </p:blipFill>
        <p:spPr>
          <a:xfrm>
            <a:off x="293760" y="1476360"/>
            <a:ext cx="2363760" cy="2951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C:\Users\Zoran\Downloads\oralna hirurgija\slike\benigni\download (4).jpg"/>
          <p:cNvPicPr/>
          <p:nvPr/>
        </p:nvPicPr>
        <p:blipFill>
          <a:blip r:embed="rId2"/>
          <a:stretch/>
        </p:blipFill>
        <p:spPr>
          <a:xfrm>
            <a:off x="5243400" y="1579680"/>
            <a:ext cx="3684600" cy="2268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Users\Zoran\Downloads\oralna hirurgija\slike\benigni\images (4).jpg"/>
          <p:cNvPicPr/>
          <p:nvPr/>
        </p:nvPicPr>
        <p:blipFill>
          <a:blip r:embed="rId3"/>
          <a:stretch/>
        </p:blipFill>
        <p:spPr>
          <a:xfrm>
            <a:off x="2795760" y="3963960"/>
            <a:ext cx="4518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6822-A971-4706-9338-EE669A82D0E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493560" y="1636560"/>
            <a:ext cx="821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шовити ( од одонтогеног епитела и ектомезенхим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ични 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дак. Јавља се код млађих пацијената, у прве две деценије живота. Расте асимптоматски, а ртг налаз се описује као унилокуларно или мултилокуларно расветљење, са јасно ограниченим ивиц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ако је бенигни тумор, лечи се радикално ресекцијом дела вилице, због рецидива као малигни амелобластични фиброса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1E6-A7E5-4449-B044-1C35B98CFD5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469800" y="1828800"/>
            <a:ext cx="8132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мелобластични фибро – одо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ичан преходном, али хистолошки садржи глеђ и ден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ће је да је овај тумор само фаза у развоју одон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 разлику од АФ не рецидивира и лечи се конзервативно хируршки енуклеацијом у целости и обично се лако одваја од суседн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0" y="6424560"/>
            <a:ext cx="4100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3D74-6D42-4158-8234-27C3AF18F5F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444600" y="1671480"/>
            <a:ext cx="82058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донт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најчешћи одонтогени тумори. Они и нису заправо неоплазме већ развојне аномалије ( хамартом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пуно развијени одонтоми садрже глеђ, дентин и различиту количину пулпе и це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е с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ишеделно сложн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ompound composite odontom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динствено сложен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omplex composite odontom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4578-15A0-40B3-AE45-20D5ACF8480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80960" y="193680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396720" y="162576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ПИТЕЛ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пил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стају на површини оралног епитела. Могу се наћи на образу, уснама, језику или слузокожи неп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ју егзофитичне бенигне, петељкасте туморе, јасно ограничене, некад покретне најчешће храпаве површ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ина папилома су мањих димензија  ( неколико милиметар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новна карактеристика тумора је пролиферација спинозних ћелија папиларног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0" y="6424560"/>
            <a:ext cx="4114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38D8-3BA0-41A3-A0E1-A143F2BB166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444600" y="1697040"/>
            <a:ext cx="819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виру ото-денталног синдрома, могу да се јаве и мултипли одонто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графски, компоновани одонтом показује бројне мале творевине сличне зубима, окружене зоном расветљења и јасно ограничене од околне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онтоми се лече хируршки, конзервативним приступ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0" y="6424560"/>
            <a:ext cx="392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AC62-0771-419E-912A-45F3707F5AA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Users\Zoran\Downloads\oralna hirurgija\slike\benigni\download (1).jpg"/>
          <p:cNvPicPr/>
          <p:nvPr/>
        </p:nvPicPr>
        <p:blipFill>
          <a:blip r:embed="rId1"/>
          <a:stretch/>
        </p:blipFill>
        <p:spPr>
          <a:xfrm>
            <a:off x="5511960" y="1781280"/>
            <a:ext cx="3170160" cy="21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Zoran\Downloads\oralna hirurgija\slike\benigni\images (1).jpg"/>
          <p:cNvPicPr/>
          <p:nvPr/>
        </p:nvPicPr>
        <p:blipFill>
          <a:blip r:embed="rId2"/>
          <a:stretch/>
        </p:blipFill>
        <p:spPr>
          <a:xfrm>
            <a:off x="457200" y="1673280"/>
            <a:ext cx="2419200" cy="313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Zoran\Downloads\oralna hirurgija\slike\benigni\images (2).jpg"/>
          <p:cNvPicPr/>
          <p:nvPr/>
        </p:nvPicPr>
        <p:blipFill>
          <a:blip r:embed="rId3"/>
          <a:stretch/>
        </p:blipFill>
        <p:spPr>
          <a:xfrm>
            <a:off x="3160800" y="4067280"/>
            <a:ext cx="29937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7194-88E8-4711-861A-9D1CDDC97D7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760" y="14580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36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469800" y="1576440"/>
            <a:ext cx="814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зенхимни одонтогени ту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донтогени фи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дак тумор, који се јавља у било ком старосном до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ле лезије су обично асимптоматске, док веће врше експанзију кости  и проузрокују расклаћење суседн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и се хируршки , енуклеацијом , а рецидиви су р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858-DBD4-44C4-9F1A-A5AA927FE3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444600" y="1671480"/>
            <a:ext cx="8181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икс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и тумори. Радиографски се виде као уницистично  или мултицистично расветљење јасно или нејасно огранич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соми вилица нису инкапсулирани већ инфилтришу околну к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тога није могуће у целости их уклонити конзервативним хируршким поступ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ће лезије се уклањају радикално , ресекцијом дела вилице због спречавања рециди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ECD9-F8AC-4F08-A3DA-F17B4C5B2F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433440" y="1684440"/>
            <a:ext cx="81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ементобл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редак тумор кога је тешко разграничити од остеоблас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налази у моларном пределу доње вилице повезан са кореновима првог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а је енуклеација лезије, истовремена са екстракцијом или апикотомијом захваће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цидиви се не јављ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вилиц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11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C0E-BD18-46EC-945F-37CFDFF57A4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C:\Users\Zoran\Downloads\oralna hirurgija\slike\benigni\download.jpg"/>
          <p:cNvPicPr/>
          <p:nvPr/>
        </p:nvPicPr>
        <p:blipFill>
          <a:blip r:embed="rId1"/>
          <a:stretch/>
        </p:blipFill>
        <p:spPr>
          <a:xfrm>
            <a:off x="201600" y="1486080"/>
            <a:ext cx="3692520" cy="2449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Zoran\Downloads\oralna hirurgija\slike\benigni\download (2).jpg"/>
          <p:cNvPicPr/>
          <p:nvPr/>
        </p:nvPicPr>
        <p:blipFill>
          <a:blip r:embed="rId2"/>
          <a:srcRect l="5852" t="126" r="0" b="0"/>
          <a:stretch/>
        </p:blipFill>
        <p:spPr>
          <a:xfrm>
            <a:off x="6653160" y="1432080"/>
            <a:ext cx="2282760" cy="3527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C:\Users\Zoran\Downloads\oralna hirurgija\slike\benigni\images.jpg"/>
          <p:cNvPicPr/>
          <p:nvPr/>
        </p:nvPicPr>
        <p:blipFill>
          <a:blip r:embed="rId3"/>
          <a:stretch/>
        </p:blipFill>
        <p:spPr>
          <a:xfrm>
            <a:off x="4181400" y="3076560"/>
            <a:ext cx="20764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07F5-EA06-42B4-B981-77CFC65A0F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33440" y="1660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пиломи се лече ексцизијом ( или деструкцијом електрокаутером или криосонд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benigni\papiloma\download.jpg"/>
          <p:cNvPicPr/>
          <p:nvPr/>
        </p:nvPicPr>
        <p:blipFill>
          <a:blip r:embed="rId1"/>
          <a:stretch/>
        </p:blipFill>
        <p:spPr>
          <a:xfrm>
            <a:off x="361800" y="2513160"/>
            <a:ext cx="2511720" cy="24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Zoran\Downloads\oralna hirurgija\slike\benigni\papiloma\images (1).jpg"/>
          <p:cNvPicPr/>
          <p:nvPr/>
        </p:nvPicPr>
        <p:blipFill>
          <a:blip r:embed="rId2"/>
          <a:stretch/>
        </p:blipFill>
        <p:spPr>
          <a:xfrm>
            <a:off x="3233880" y="460224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Users\Zoran\Downloads\oralna hirurgija\slike\benigni\papiloma\images (2).jpg"/>
          <p:cNvPicPr/>
          <p:nvPr/>
        </p:nvPicPr>
        <p:blipFill>
          <a:blip r:embed="rId3"/>
          <a:stretch/>
        </p:blipFill>
        <p:spPr>
          <a:xfrm>
            <a:off x="5708520" y="2320920"/>
            <a:ext cx="32162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1440" y="12204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D77-87B8-4B88-AB12-A19C7B990D6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57200" y="1697040"/>
            <a:ext cx="8205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еукоплаки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ју беличасте лезије оралне слузокоже које се не могу сматрати туморима у правом смислу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ђутим због могуће малигне алтерације ( 4% у 20 година ), ове промене треба сматрати премалигним ле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изглед оралне леукоплакије може да варира од изоловане беле мрље на оралној слузници  до дифузно распрострањене промене на широкој површини различите боје ( бела,сивкаста, жућкаста код пушача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ина такође може бити глатка до дубоко избразд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E2E6-E759-450C-87F0-EE4B3DD799A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57200" y="1647720"/>
            <a:ext cx="821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кроскопски,  леукоплакија се карактерише знацима хиперкератозе, паракератозе и аканто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разита атипија епителних ћелија ( дискератоза ) може да сигнализира развој карцинома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n situ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, пре свега, подразумева уклањање узрочног фа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иритације различитог карактера ) ако се може идентификов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у ексцизију промене треба предузети када лезија поприми атипичан к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61D6-3653-4423-999F-947409E8D16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99" name="Picture 8" descr="C:\Users\Zoran\Downloads\oralna hirurgija\slike\benigni\leukop\images.jpg"/>
          <p:cNvPicPr/>
          <p:nvPr/>
        </p:nvPicPr>
        <p:blipFill>
          <a:blip r:embed="rId1"/>
          <a:stretch/>
        </p:blipFill>
        <p:spPr>
          <a:xfrm>
            <a:off x="463680" y="1549440"/>
            <a:ext cx="2466720" cy="185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Zoran\Downloads\oralna hirurgija\slike\benigni\leukop\images (1).jpg"/>
          <p:cNvPicPr/>
          <p:nvPr/>
        </p:nvPicPr>
        <p:blipFill>
          <a:blip r:embed="rId2"/>
          <a:stretch/>
        </p:blipFill>
        <p:spPr>
          <a:xfrm>
            <a:off x="3532320" y="162576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Users\Zoran\Downloads\oralna hirurgija\slike\benigni\leukop\images (2).jpg"/>
          <p:cNvPicPr/>
          <p:nvPr/>
        </p:nvPicPr>
        <p:blipFill>
          <a:blip r:embed="rId3"/>
          <a:stretch/>
        </p:blipFill>
        <p:spPr>
          <a:xfrm>
            <a:off x="401760" y="408780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C:\Users\Zoran\Downloads\oralna hirurgija\slike\benigni\leukop\images (3).jpg"/>
          <p:cNvPicPr/>
          <p:nvPr/>
        </p:nvPicPr>
        <p:blipFill>
          <a:blip r:embed="rId4"/>
          <a:stretch/>
        </p:blipFill>
        <p:spPr>
          <a:xfrm>
            <a:off x="3529080" y="407664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C:\Users\Zoran\Downloads\oralna hirurgija\slike\benigni\leukop\images (4).jpg"/>
          <p:cNvPicPr/>
          <p:nvPr/>
        </p:nvPicPr>
        <p:blipFill>
          <a:blip r:embed="rId5"/>
          <a:stretch/>
        </p:blipFill>
        <p:spPr>
          <a:xfrm>
            <a:off x="6265800" y="2843280"/>
            <a:ext cx="272412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8182-D6BF-4EB4-BD68-A491303FEA0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5840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Бенигни тумори меких ткив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9680" y="1660680"/>
            <a:ext cx="8277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ЗИВН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чести тумори оралне шупљине које формира субмукозно везивно ткиво, укључујући и периост алвеоларн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ми се клинички испољавају као тумори издигнути од површине, јасно ограничени, прекривени слузокожом нормалне боје, помични или на петељ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је хируршко , елиптичном ексцизијом  лезије и примарним затварањем 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Korisnik</cp:lastModifiedBy>
  <dcterms:modified xsi:type="dcterms:W3CDTF">2019-09-09T16:04:30Z</dcterms:modified>
  <cp:revision>1812</cp:revision>
  <dc:subject/>
  <dc:title>NAZIV PREDAVANJA</dc:title>
</cp:coreProperties>
</file>